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66AD6-BD79-4C38-8D2E-C9C13E1ED4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im:  What is cloning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Now:  Review our test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m:  What is clonin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Now:  Review our te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a clone?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lone refers to genetically identical cells originating from one cell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are they talking about when they refer to “cloned animals”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y take DNA from a cloned cell of another animal, and insert it into a zygote that had its DNA removed, and replace it with the cloned DNA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 clone?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ne refers to genetically identical cells originating from one c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they talking about when they refer to “cloned animals”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take DNA from a cloned cell of another animal, and insert it into a zygote that had its DNA removed, and replace it with the cloned DN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cloning looks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ke on a cellular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evel…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loning look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ke on a cellula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o did they clone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1997, they successfully cloned the first animal- a lamb named Dolly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nucleus they used was from an adult of the same species.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nce then, they have successfully cloned sheep and pig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did they clo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1997, they successfully cloned the first animal- a lamb named Do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cleus they used was from an adult of the same specie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then, they have successfully cloned sheep and pi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y do they want to clone animals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y do this to study genetic disorders and disease susceptibility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is done strictly for medical research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 they want to clone animal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do this to study genetic disorders and disease susceptibi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done strictly for medical resear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the blue Biology book…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urn to page 331 and read up to 333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swer questions 1-4 on page 333.  You need to read the previous pages in order to answer the question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ke sure your name is on the paper – it will be collecte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blue Biology book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rn to page 331 and read up to 33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 questions 1-4 on page 333.  You need to read the previous pages in order to answer the ques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sure your name is on the paper – it will be collec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CEE9-1772-4ED4-95C4-32464A858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FD9B-5C7F-445C-A05A-6C198117E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FC40-7E1F-40CF-A49A-A23B71366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4AC2-F1D6-429D-A28A-B070F6D39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B5A5AD-C161-4618-A8C0-D1F28C639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AED4DA-C0AD-454C-8DB2-03FC97BD6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D54934-E486-4085-855E-0F7DA7A44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08C5BE-0915-4AA1-86B5-9680FD108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662135-33A7-4DC5-B0F0-56180A0D1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B360B4-FF3D-4D1C-AEA5-51E99EA16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55783F-7523-4BED-B245-2A9BA93D1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DD7F-6384-4B12-BA10-E7450E445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FF1FDA-136C-4049-8DF0-8A2907EFF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CB2ED4-0465-4DC4-82EC-5A089ACC9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37790A-509F-4916-8F8E-498E239F8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6FC016-E0FA-40BF-BCA8-09FFBD79B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4E51E6-4BC6-4455-8597-6A8F9A2CD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F65C-584B-445E-BF91-D099A4551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C886-6D49-4A9E-B20C-B64DEF840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82C3-6F2B-4E0B-A8B9-8BF805061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4C24-84CB-4299-A699-FBAF5A493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CDBA-9DC0-4E1E-977A-448764EEA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B256-0E87-407E-B2A4-FA05C1B37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2795-3738-45AC-994A-2D7F8DEDE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88D17-19CE-4377-9C9B-D94743438D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58EDB-FB48-498F-9DA4-EFA87A5CA22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im:  What is cloning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 Now:  Review our tes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at is a clone?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one refers to genetically identical cells originating from one cel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are they talking about when they refer to “cloned animals”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take DNA from a cloned cell of another animal, and insert it into a zygote that had its DNA removed, and replace it with the cloned DN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6" descr="cells3"/>
          <p:cNvPicPr/>
          <p:nvPr/>
        </p:nvPicPr>
        <p:blipFill>
          <a:blip r:embed="rId1"/>
          <a:stretch/>
        </p:blipFill>
        <p:spPr>
          <a:xfrm>
            <a:off x="4389480" y="304920"/>
            <a:ext cx="4754520" cy="65530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at cloning looks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like on a cellular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level…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o did they clone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1997, they successfully cloned the first animal- a lamb named Doll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nucleus they used was from an adult of the same species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nce then, they have successfully cloned sheep and pig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5" descr="dolly"/>
          <p:cNvPicPr/>
          <p:nvPr/>
        </p:nvPicPr>
        <p:blipFill>
          <a:blip r:embed="rId1"/>
          <a:stretch/>
        </p:blipFill>
        <p:spPr>
          <a:xfrm>
            <a:off x="1066680" y="204840"/>
            <a:ext cx="6477120" cy="5958000"/>
          </a:xfrm>
          <a:prstGeom prst="rect">
            <a:avLst/>
          </a:prstGeom>
          <a:ln w="0">
            <a:noFill/>
          </a:ln>
        </p:spPr>
      </p:pic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9" descr="cloning-sheep"/>
          <p:cNvPicPr/>
          <p:nvPr/>
        </p:nvPicPr>
        <p:blipFill>
          <a:blip r:embed="rId1"/>
          <a:stretch/>
        </p:blipFill>
        <p:spPr>
          <a:xfrm>
            <a:off x="2482920" y="0"/>
            <a:ext cx="4498920" cy="701028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y do they want to clone animals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do this to study genetic disorders and disease susceptibilit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t is done strictly for medical research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In the blue Biology book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urn to page 331 and read up to 333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swer questions 1-4 on page 333.  You need to read the previous pages in order to answer the question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ke sure your name is on the paper – it will be collect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3T03:53:53Z</dcterms:created>
  <dc:creator>Liza Evanson</dc:creator>
  <dc:description/>
  <dc:language>en-US</dc:language>
  <cp:lastModifiedBy>LEGION2</cp:lastModifiedBy>
  <dcterms:modified xsi:type="dcterms:W3CDTF">2016-01-12T10:16:54Z</dcterms:modified>
  <cp:revision>19</cp:revision>
  <dc:subject/>
  <dc:title>Aim:  What is cloning?</dc:title>
</cp:coreProperties>
</file>